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3DCD-E18E-48BC-946E-101775D75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26F9-48C1-4B94-967D-70F7FB6E6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0D30-296E-4587-A95B-D5C36F0A2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6276-DE68-4079-9964-EA8C70DB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1827-4902-4617-84F9-0EBBB294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A0274-CA8D-4D60-A8E3-AA123B10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16804-D65F-41A7-A186-814BFF3A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3E271-2E5C-42A8-9FF9-1AF1828B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824F5-3026-4A51-9249-345F7B3A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6C3EE-0E00-4337-9C41-8ADB6A0B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8C626-221B-4C4A-B28C-32BF2123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F2180-133E-4B9B-8D2E-362CC053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3CA1F-E2F0-4CAA-8578-63072F44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43140-0CBD-4F3A-8215-2F2EAB93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1B3B0-7D51-4394-93C3-DB756DA4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46EB-848F-424B-87F1-E42FE465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61F7E-5120-4CD2-9145-73B7240C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1F8ED-0F7B-4BEF-86A7-38D46B2B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A06A8-49D4-4DA2-A936-A2DAB744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F9615-C7F4-4470-A356-239001B9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C6EF6-E7F2-43C4-9353-B22D2AAD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40A73-D77A-4A87-AC83-D26452C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16831-14F7-4F46-9D81-2B029581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45179-53AA-4FB5-AE67-44697CD7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6A05D-EAB8-4CE6-8C73-EE488DD6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2A51C-27A7-4202-B71C-F6B3D0EA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42BA-9083-498B-A48E-8BC6FDF7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1A2E9-0F59-4DEE-9414-CD244852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6B03EB-5B24-459B-8612-6D384199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90BDE1-8749-425E-A819-D6EAF6E5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5B35EA-7F53-43AC-AC6F-A6D5AE08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F6FF3B-D549-439F-938F-2A3D569D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A01893-8CAD-4117-B36C-595C860C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46F773-F02B-4F89-A6D6-F08F75DF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B84492-728E-4BE6-8AE0-DD8AC1F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9D8214-F860-47CA-B8AE-81AC3BA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D720A7-E2E6-473A-A48A-55C56DD7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8D80-F98D-4F47-9638-59539A7C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CFDF70-B07A-4C67-8A54-B110228D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9F2370-AED3-4FE7-AFC1-4BA17AC9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48E507-5BB7-4777-B0AE-FADAC90F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5A285-99F8-40B3-A06D-FD274E04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C40E4-51EB-42BB-84D3-31CB6A36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0B3E1-0372-4ECC-8173-F0799E3E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4E5F4-2A5D-4485-8BEC-1CA1A6F9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1508B-8ADB-43DE-88DD-D7C8D14C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9B9FD-28A4-46AA-92B3-251FCA6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694BD-8051-4D7E-B601-E9C52536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B37D-B1CF-4FF4-9743-E6B7A521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A49A4-01A5-40A7-A520-B95164AF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B70D8-21B4-435E-B73A-03CE261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7CEF0-0A80-4813-A8D2-771666AB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94741-AECB-4E46-9705-E3648F68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E3D70-5609-4ACE-97D8-C016A608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354A99-7179-4A7A-9E6C-2E8734C0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B84C20-B298-459E-8160-7D903B9B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9540F2-78F5-46DB-A679-E115D8CC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0A9DEF-1F40-47B2-9722-75275B0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7703C3-B245-4C6B-83D9-76EEF5E6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3EB3-8EC8-450E-9E14-0D349262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3DAD00-E9D0-4E6D-83BA-3320954B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6B6817-28E9-4364-BBB1-D86341A0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96628A-D093-4A97-A82A-1974D2C3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D30C71-666B-48E3-909E-5F4462F3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C7B1D7-90FE-46FC-AEA4-17A4E00B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C9085C-EE9A-4863-B4C5-8EC8649C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D582D7-6FF4-417F-AEC5-10041C22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1F47CE-A6E1-4447-952A-12AD6FBA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F68F67-395F-4320-9629-ACF340CF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C47885-C16A-4782-9270-193EFAB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3754-EB1B-44CC-9831-446D9B86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81AE64-B54F-464E-99C7-4F95E84B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C04FBB-BA7E-48D4-A0EB-97E6D3F4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2DB9E7-856F-4222-9862-CB9DA45A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CD07F8-7E8A-4B86-A9FD-FDF19054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07490D-FC59-4727-835B-9E996925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905780-41FA-48D1-B460-3CDA0D1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1F8836-893A-4B62-A082-6CE3210B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D633DB-25A1-4469-A5D4-A5F73642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09A370-F830-40CD-8866-DDE05AEA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DB3A5C-BFE0-425E-BC8A-0D195F9C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5D29-35D0-48E4-A779-1F487D92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6BF53F-356C-4712-8647-AAB64AD4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F74498-B4D7-4AA1-B50F-04BDCE56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596BB2-444F-471C-A2C6-0558E9F4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45403A-2375-476A-B7BD-FF7C0653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C23EC8-FA4C-483B-A470-D2DE6404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4623BF-59B1-49C3-A7A6-2BF6D194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6E3356-35C5-469E-BCD1-5194B1EF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7582E2-2341-4D48-B835-F60F702F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C3B873-C61F-4FA7-9F5D-4BD8E3FD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B0C92F-E5F6-48EE-B349-EBD90875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8A18-277D-40D6-9B9B-F2178E42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D23AEE-4F1A-4B99-8597-6A7A9F54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EA21E9-CE1F-4201-851A-39187B41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9479CB-8D45-4BBC-B659-FD91D3C9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65B85C-05EB-4C52-98B6-D1C3360E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2E23E0-4592-45B1-8341-0E03CFDF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257556-5979-4F66-B0B6-20AE1163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CACE5F-37E1-4F3F-9834-C6E878C0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C7F297-B10B-4B2B-BC03-E8500AC6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B1A7F9-F689-4946-A8F7-349AB63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F42FFF-52B8-4A10-A7B2-1817AAE5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D5B7-651F-4BF7-9702-7DDADC13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7D4D1C-3F0C-4DDD-958D-F2B3BA1B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BC93CD-9DB6-4447-9026-96DB76DA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F97A08-57CC-4480-82A6-AF07F288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450524-1831-4602-8453-16031E76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FE3354-4B69-4D70-A46A-46EE6318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1515B9-072A-40F2-B374-B11AA727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B7D98A-924E-4537-98B0-93AAD32A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1D4627-3841-49DA-B75A-E084E12D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711E28-3FFE-4FA5-A4CA-49FCAE9C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AC2E9E-E8C2-49B7-A134-352E1DC4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5DF1-A33E-4394-8066-3A03FD12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F459-CC5C-49F3-A01D-97041D8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E42C21-27C2-4524-B201-01115B9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042031-C101-4D7A-8552-8C8705A4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4768F3-0DD5-4E5D-9031-D6B55D7D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A5E94C-76B5-42DA-A01D-98B4AF07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A54B40-E9D5-4AA1-BA54-3F7B183F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6DD656-8D6E-4FE7-A7D0-9DF46C27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0F12E5-6DDC-4EF0-978D-F7328C26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46D2A8-EA3E-4E17-98C8-807F2E86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9A56D7-C363-493D-A2F6-F6626CC0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9330C5-3854-4167-BD09-3A99F5CC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AC1D-23D3-4285-BC83-DE9AE82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8E41A3-D446-4D31-8AD5-87563F22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2D058D-806D-481A-A525-E0966B0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94EC58-2659-4A32-BE21-F042D842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C41298-7E39-4734-B4FB-0829F266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B09AD4-007F-4B4C-92BF-28CA69D4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D26867-123E-4D47-B6B0-43978937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D487FD-DF81-4526-B17A-40139B1F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189578-D000-4378-A55F-D778795C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DB9D3E7-5CC2-46A0-A5B5-1A040A95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E23B49-8E22-4981-8F96-EBE72133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E07F-6A58-410A-894D-BB774B33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0395A1-CE95-429C-984E-2EF6856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5475ED-A95E-43DB-ACCC-AAFA49EC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4FD425-01AE-4E68-8A8F-E1E9E177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5218C3-C93D-48AC-ACD4-C9E993E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15A49F-56B3-4690-8B3F-CD440179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DD5553-2B23-4A33-A8A3-929070D5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5069A1-F1B7-43E2-9799-2613A531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3F0DFE-6A7F-44C1-9613-520BDF4B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27B534-06ED-4514-BF4D-EAFE6AD5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50A16B-E403-4334-8B41-1B8932FD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2F43-AFD5-4200-A8BC-B40C31F0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B20C6A-23C9-4653-A857-73CF1AE9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8B1DAD-6515-4DC5-8DC0-CF96C265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6C4ED55-A5DA-4F30-9AD9-60F59897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8142C3-4338-4CBD-83AF-6161FC80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7F51FA-AD87-4586-922E-D3DE6712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9B1566-9DB5-420E-8443-6A6D4927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3EDF4A-0543-4933-90E7-0FA1CB10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66DB28-A9DF-48D7-BBA2-D7EADF9F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4C57B50-6AF2-4327-8BC1-9683543D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656BE8-8A0E-4C60-A7D7-2E72C4AC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C60E-6248-41DC-A7F2-37A782F7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77CE5B3-45B5-4F23-86D1-0E7A6A5A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A73DDE-EE70-4790-AC50-C8450ACD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77012D-6488-43C8-A535-6B01024F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A210413-7FF3-4773-A2E5-846BB829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E9C048-5570-47DE-95BA-1D6050C2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34417D7-D8A9-44C9-A0FB-67BF47E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53CA68-28F5-4DB8-BD73-649DBAD7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F68EA8-C07F-43C1-A29A-61299C0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3E58C1-7AA4-4BC8-867A-F68D3E9A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5B3A51C-16C2-43DE-ABAC-2B88FA7C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E339A-0DA2-4864-BE2A-D79F863E329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572AE1-DE8B-4AE2-B912-7EBB5D3D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A2DABF7-4D98-4DD6-8B27-17EF3F6B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B71AD2-08CC-4EB7-A03F-05A8C341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3EFCBE6-1611-4EF1-AA84-72B57C8B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1EBA71-3172-467F-9200-B5633470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FC8AFBB-28FD-4E12-98D2-6B2A2BC2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B65F3BD-B07A-44BC-8309-7BB7DEF0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D7D33C-E77E-448F-ABF6-E8FA414D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1205C9D-F97C-47DE-BBA7-F0C5B5B1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51C7D5-A8D8-4ADC-B105-4550B2CC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8B51F-4820-434F-8859-26C838545B8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0C8876A-A9ED-4F69-B443-ED80C218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D93432A-A9F9-4DC5-9975-36D8BF7C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E40D6EF-B673-40DE-84AA-05943CCE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974831F-C9B2-47E0-B838-FD4F9D1B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8628E68-C9E1-4E52-92FF-5264195F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062097-7405-4449-B4DD-C6F7465D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B62C6EC-5407-4BDE-A8E4-563D32C1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80B45F-99AC-4CA9-B9D8-814FEB29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A48DBA-17B1-4349-B303-559E64B6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D4B6A51-5273-4CA7-96C8-8799D92C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9FF7A-FA44-47B7-8D99-2C7BBC91E9D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A6C4942-1115-46A4-AB0E-0BDAEACD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FA11C1C-BE75-43CA-977D-5818D94D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095ABC5-C54A-429B-9030-EE39D94B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485211-419C-46DF-8C89-7818736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924262-D27B-4221-A96E-50EDAC7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D0AD8E-FE53-420A-9A37-1D114777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8E7A38-ECE8-4963-AD5C-AD5C8961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675520-D7DF-48B4-B8A5-F916DB52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4AA46E4-E788-4504-8F9F-9951CEB7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7D5FED2-361A-4CD2-9CA0-95208231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58415-51E0-4244-9C0D-CECD94EBA30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275B81F-8298-44B1-90AD-E2AD88D8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6B5488-573A-47A1-914C-C381E3A8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BE446C-37C6-4558-8980-C2E904E6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B3954B-F553-4493-A037-E3E1BD4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D118246-E24C-46C7-96D9-ACE27F83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8DFA25C-4CCD-4E45-AF89-1AC286FA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64DFF51-D0FF-4291-95C6-7E80D5EE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F76EDDF-6533-4FA1-B0A7-1D91410F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732685-204E-4F89-8DE0-1173E304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50745F-64B0-46C5-BB87-D0C820F401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C38FB-30B7-48BE-B32F-E06F286CC04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EBDE13-3DBC-4475-A435-6D1B7C69C5F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AF1CE9-5E59-42B8-B1FD-ABE02B1E8B0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309023-80C6-4BD9-9496-59784B43382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FE4BAD-2168-4DD1-AF2D-0CC6A9B48F5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56EDC7-F218-4687-8248-F03398DF4D4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32C602-BF09-465F-AF0F-438658BEC14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6457A4-D59A-4FF4-A4F6-3BA3A42CE67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59253B-6D15-417F-9DF9-90BD3D40C83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089AB4-6E04-4388-9039-9A7E75220D7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AA806A-4634-4523-83ED-8D136671C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508C-F7B9-4671-9105-DDA6453C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59F38-E526-4D6E-A907-29FC15D5156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1C9048-F3A9-4FBB-8B16-C661303DBD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98BDD-ADA3-46FC-9ABB-1576E7466E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4CDE7-C921-44BB-B481-293072BFA2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92301-FFEB-4866-8E08-1B4C8270A8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0D71B-1EBA-48FD-8EB0-E8A1ADA1EB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528C09-0234-48E7-B61A-6ABE6196C4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E7E72-5BB1-4641-8AF2-A3769E06DB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843121-3C4C-434F-90D0-707CF85C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49F6D6-6AF0-49D6-939E-2C2A776D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B465C-32F9-4737-9A90-E6B9A4F2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065E-0A4F-4BFC-AE3C-4B0AE195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1BFC9-1163-4BFF-B911-8E5A8FE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6CA8F-8CF8-4E64-BE81-60B24AFD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18956-8CB3-4585-A523-78E153E5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9213E-D0F8-4906-B163-8FE47E4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3AE92-F255-4C7A-BE38-35543E47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2985F-2953-4FB0-A4C7-3E6B6B37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720AF-3696-413A-B0E1-9DB0CA08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3EEB8-0DC5-4A80-8579-E5E972EE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B57B89-8991-44FD-8981-34D6894B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E4CB9C-1910-43D5-BC43-5DE0FEFA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559D-B075-424E-901B-583728D4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209CA5-0440-4C11-89D7-9EFE9260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CB3463-48E7-4EFF-AB62-5D721357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D8F113-3254-41F8-B40D-55FD6FB1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F1D568-7092-4026-88F4-36DB4508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E43FC-EF93-4E0C-9D8F-3A4F1609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AEF28A-3296-4C6F-B825-9E5DFCF6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78538E-8F81-45DC-9F40-03A1CB27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408CC8-409E-439D-BB7A-60A75DFB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078A9C-0142-4447-B155-AA4B333E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D3EC17-4C30-47A0-8B2E-4990F482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5622-FE4B-4965-B4F7-249F530E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E1CF5C-C84C-46C2-80C6-B9176E3A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FA2EB0-FC63-4172-965B-EABD6AF3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8615ED-2289-4E76-9C6B-DE57432E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441AF3-A9C7-4125-A301-746B7C76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D4CD8-4B4C-4640-95D5-77DC1E7B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9BDF6C-0FFF-4904-B56C-79FF1983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8AA9B7-472D-41FC-8709-211918C3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D7C654-83D3-40BD-B488-BC8352CD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E0CA1-397D-42AD-92A4-3D05E7A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6EA74C-4F06-4C41-B29F-729113F5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F092-ADD1-4E3C-A01D-E4E2AA84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A132FF-DAF0-4A0F-8FE5-B540070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895AE1-8113-4EC2-B747-26016099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ABA9BC-C3AE-4882-ACF9-D1462EF4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414FC5-D989-46C4-91F5-B7E51793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D134F5-C411-4592-A5D5-C1E52242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01203E-9FED-4705-95BE-3EE8BBF8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A9D3A8-B8D4-45E9-818E-60427032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FDD69D-6865-4039-866B-05BE5CE3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0507A1-BBAB-47C2-AA3E-525FFA90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087C0D-3C76-425B-86E0-0D9A2E0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4786-C0BD-4C19-BF2B-8420D89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D4AD5C-629E-49C1-B05B-BD014851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4C8EA0-3941-4E57-BEF6-41E3BC2E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45702B-3748-44C6-A28B-1128C918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34A16-5A0D-4B80-803F-EB7ACFF6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A60D27-C93D-487D-A1DC-276DA873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D93A88-20AE-4E60-AC54-54297F50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2D0F86-BD4A-4EAD-AFCE-0528C5F8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E120D4-466C-4065-A35F-BC3A1BA8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D68536-768F-445F-A2D9-B6AD77F4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35F281-376C-46FD-8A49-B07307D3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DD23-2727-402F-A00D-8B57F552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58B787-8948-4D55-B48D-E0F38383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ABC74-1218-4361-8EF8-2535417D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5EF196-AD9A-445C-8247-B451BDE0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4F8D48-AAC5-42B1-814C-9DEE4588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35FA8-8DE4-4952-BA85-9EC2A1B9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97F7E9-45C8-41EF-94C1-88D86813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7E5DF4-F436-467D-A228-5B4E2A65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45310-F767-47AF-944C-8223A104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58798-9831-4A1A-BFC5-F51B7FC4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D6634-3B24-4FE6-9DEF-47ABDB2D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7D09-0023-4390-8B7F-B0B71FD4BA6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92BA-A8F7-446E-A9B0-B0742E02DEB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EB71-D020-43F3-8071-E39D4904920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FDAA-D846-4C8A-BE55-0D036A019D0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4A14-BFD0-410F-AB88-8DD4BA1E90C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1B0F-547E-4DFA-8B51-7F6B0AED0C4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18D-413E-4120-9D0A-1796DE65762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5D50-AEAB-4B5B-80AA-C5307DBE632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9A8A-1660-4B30-B969-03B3FB60505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F136-4336-4A0E-90DF-F6AFC1E3421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87F5-FAAC-459B-AACC-6A087547212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9371-C0A5-4997-A852-828B98D73B6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B4B6-FD1A-49DD-8E18-8C321B10F87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0989-43F1-4A99-B6DD-B6E8DD60ECC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65E7-9D09-4D3F-9991-E12DE8C4CE3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9FF2-C30C-41C3-A654-12017BDDFB2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924C-DDA2-4626-BDD7-0803214678B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A32C-4C7B-4BE6-B1C8-08FF5E4DEED7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C26E-D8E1-475C-8408-2E7C7C20DEC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DB83-1C21-44A1-90F8-FAB1C292549E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0D60-D7D6-414E-878E-97E08AAF1ED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6063-F688-4CDB-980B-47931E608BD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2AB1-4D8E-4CA2-BAF9-B21E72C24D5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494B-8463-4764-8F7B-950CFF91540E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52BC-51A2-4FCB-978F-F886F106A76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49E9-0F0E-488A-920C-D08EEE4A2055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hapter Fiv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Calibri"/>
              </a:rPr>
              <a:t>Understanding eCommerce product design strateg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veral material changes to the product are necessary for web enab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arch engine keywords and interactive links to make information available to potential buy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Graphics bring life to contents and make them look better on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Mechanism for impartial, open-source reviews and referrals from actual custom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e-segmenting and repackaging product based on feedback – making </a:t>
            </a:r>
            <a:r>
              <a:rPr b="0" i="1" lang="en-AU" sz="2600" spc="-1" strike="noStrike">
                <a:solidFill>
                  <a:srgbClr val="000000"/>
                </a:solidFill>
                <a:latin typeface="Gill Sans MT"/>
              </a:rPr>
              <a:t>products easier to sell buy on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6DFB-FDD0-43BB-8DB6-9BADA32E5D3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ustomers should be able to select, configure, and buy products over inter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3G/4G technologies will increase the capability of ecommer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customers can feel the product onlin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take decisions without going to retail stor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gain competitive advanta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tandardization and availability of catalogues over interne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Local languag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arch and artificial intelligen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Mass customization - </a:t>
            </a: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roducts to be readily configured and assembled as per customer specific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45CA-64B8-483D-BF0C-4E68420D0FE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esign products that can be more easily configur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acilities to request the ingredients, textures, packaging, and chose delivery schedu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actor in large amounts of customer information into the design of the product, including health, diet, portion size, allergies, and demograph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Gill Sans MT"/>
              </a:rPr>
              <a:t>Dynamic pric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fast and accurate market pricing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calculate product profitability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s per the configuration demanded by the custome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lexible pric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F627-79D5-4ED7-9638-7B44AB8015B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market-based pricing stru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data mining/segmentation software will provide data analysis t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bundle products with other features and provide a pack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optimally align the value to the custom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ustomers are more demanding and innovate new ‘values’ for custom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hybrid distribution channel needs to be defin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Online billing for rapid decision and delivery and retu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mail response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Service and support integrated with e-comme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7EE8-7AC4-4C8E-9DD8-9251E1A75A3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The chapter talks about </a:t>
            </a: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ifferent parameters that need to be considered before getting ready for e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esigning product feature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hybrid channels for distribution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ifferential pricing for products meant for different channels an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mass customiz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duct channel readi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AE25-D03F-46CE-80EB-300FC23732F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Benefits of internet based marke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E-commerce consider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When a product can be marketed over intern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Design criteria for selecting web enabled supply channe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5A3E-21AB-4BD3-A745-BA940285C8D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hannels used for marketing is quite importa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hannels are different conduits to reach end us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orrect fitment of products and chann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lower selling cos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vailability of products at the right tim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fewer customer problem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technology is changing the shape of the chann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enhancing capability of existing channel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creating new on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itment of products, technology and channel is becoming critic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6809-A7A1-420B-9BAD-D874B4953AC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duct marketing strategy - enabled by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nature and mix of chann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ackaging and designing of their offe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enabling internet with correct  design can take advantage of the web enabl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ducts that easily fit are digital music, news, financial services, and computer softwa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reates easy brand awareness among consum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9B82-56B2-4D76-9FD2-696120E3D32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Benefits of Web Enabled Channe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Dell pioneered the concept of redesigning the produ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echnology enhances existing selling channels and creates new o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digitize” product catalogues and available to 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o re-architect product specif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ustomer configured information can be pushed to potential custom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Internet stores (virtual) and online marketplaces that sell products directly on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products are displayed on electronic shel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ustomers can customize and try out different combin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B7E0-DDE0-4822-8BA0-C2425899636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Benefits of Web Enabled Channels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Can help </a:t>
            </a: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apid-fire bidding during online au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Not only products but channels need to be web rea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fessional services such as executive search, tax consult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Enabling product configuration and assembly that is fast and transparent to the custo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Designing products and services that can be sold through any channel or mix of chann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0C78-BFAC-45A6-8B64-CD0FAF78200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apability of the channe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istribution requirements need to be underst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eatures in an interactive mo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How the products can be stacked in logistics (if ordered through onlin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ersonalized products, personalised services, and fast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ackage, distribute, and configure produ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ompare prices and produc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adjusting product pricing on the f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C7BB-327B-4314-9116-F130FA0118F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wider selection of products and servic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lf-service electronic chann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online marketing assistan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Benchmark customer offe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lower transaction costs, more self-servi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building services into structured pricing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ccessorize mature products with desirable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utomatic replenishment ordering, free returns and free delive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Technical capabilities of the chann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5856-D639-4F33-9D74-B9F4987F670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ackaging, price, placement, and promotion need to be appli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Be able to digitally represent the produ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Be able to distribute products through electronic order fulfil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ublishing and the music industry modify their offerings for digital distribu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icing by considering time, medium, and cont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Web’s unique ability to sell contents in small quant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helf life of perishable produ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52BE-09BA-4AF4-A731-F0313B0862F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3-10T10:41:15Z</dcterms:modified>
  <cp:revision>380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